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1EBBF-D4A8-45F2-AC02-5798248A5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781FC-3E2B-4243-9A5A-142E2AE2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75D56-CC11-478C-A20F-AF5A4F086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09FFF-3787-4187-9613-263FD1927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E8B17-8458-409B-8114-9B2384BFD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5F8B-336A-4E80-B742-2416959F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8CAF-C60C-4508-BDDD-248DDCEC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1D8B-EC80-4429-8BA1-337F70D6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CD95-F7BF-4D00-858F-67E25331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54CE-2AC8-4D17-9680-703FE9EE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7CF1-AAD8-4E23-84C5-47225089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9C38F-1C0F-4807-A94A-0090C503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E4C2-266B-483E-BF86-700E2646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7CF9-1073-4989-9E3C-9B4EFE7D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1EF5-71D6-4ED5-BED9-6FDC81D7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716A-9511-4279-AC6C-F0FF0673C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F488-67B2-4847-8748-788F06DB8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BD2F9-A222-4ABB-87E5-C6690600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139C2-B0F2-4C3C-93FF-3A4126CE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AFE5E-EF58-4AF7-8859-C1899F80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A7161-0B5C-4E21-9C9C-334BE547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874D7-4022-4BC6-A1F6-4ADC5953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EB50F-A95C-4039-92CC-7DD4107F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AC14D-3F2B-425B-A478-8D4BA7C7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0CB1-0B3F-4722-BBBD-B414573DE2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212D-1032-4965-90E5-50A78AB1A8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38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66ff"/>
                </a:solidFill>
                <a:latin typeface="Arial"/>
              </a:rPr>
              <a:t>Closing the Literacy Gap for ELLs</a:t>
            </a:r>
            <a:br>
              <a:rPr sz="6000"/>
            </a:br>
            <a:r>
              <a:rPr b="1" lang="en-US" sz="3300" spc="-1" strike="noStrike">
                <a:solidFill>
                  <a:srgbClr val="33cccc"/>
                </a:solidFill>
                <a:latin typeface="Arial"/>
              </a:rPr>
              <a:t>Which model is most effective?</a:t>
            </a: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193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ff"/>
                </a:solidFill>
                <a:latin typeface="Arial"/>
              </a:rPr>
              <a:t>Ashley Mar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ff"/>
                </a:solidFill>
                <a:latin typeface="Arial"/>
              </a:rPr>
              <a:t>Education 7201:Seminar in Applied Theory and Research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ff"/>
                </a:solidFill>
                <a:latin typeface="Arial"/>
              </a:rPr>
              <a:t>Fall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cc"/>
                </a:solidFill>
                <a:uFillTx/>
                <a:latin typeface="Arial"/>
              </a:rPr>
              <a:t>Table of Cont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6600cc"/>
                </a:solidFill>
                <a:latin typeface="Arial"/>
              </a:rPr>
              <a:t>Introduction  - </a:t>
            </a: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Review of the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Statement of Proble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00cc"/>
                </a:solidFill>
                <a:latin typeface="Arial"/>
              </a:rPr>
              <a:t>Slide 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Review of Related Literature:</a:t>
            </a:r>
            <a:r>
              <a:rPr b="0" lang="en-US" sz="25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00cc"/>
                </a:solidFill>
                <a:latin typeface="Arial"/>
              </a:rPr>
              <a:t>Slides 4, 5, 6, 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Statement of Hypothes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00cc"/>
                </a:solidFill>
                <a:latin typeface="Arial"/>
              </a:rPr>
              <a:t>Slide 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cc"/>
                </a:solidFill>
                <a:latin typeface="Arial"/>
              </a:rPr>
              <a:t>Slide 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791320" y="3733920"/>
            <a:ext cx="2514600" cy="23446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477120" y="4038480"/>
            <a:ext cx="16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¡Hola!  Hell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cc"/>
                </a:solidFill>
                <a:uFillTx/>
                <a:latin typeface="Arial"/>
              </a:rPr>
              <a:t>Statement of Proble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o instruct first-grade ELLs at PSX, the school has implemented a side-by-side dual-language setting that separates L1 and L2 literacy development by classroom. For Spanish-speaking students (L1), English proficiency (L2) is below expected levels according to ECLAS-2 results and Fountas &amp; Pinnell reading level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cc"/>
                </a:solidFill>
                <a:uFillTx/>
                <a:latin typeface="Arial"/>
              </a:rPr>
              <a:t>What’s the Deb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6248160" cy="4130640"/>
          </a:xfrm>
          <a:prstGeom prst="rect">
            <a:avLst/>
          </a:prstGeom>
          <a:ln w="50760">
            <a:solidFill>
              <a:srgbClr val="33cccc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1438200" y="1560600"/>
            <a:ext cx="603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9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6699"/>
                </a:solidFill>
                <a:latin typeface="Arial"/>
              </a:rPr>
              <a:t>Reversing the Bilingual Education Act (1968) with NC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cc"/>
                </a:solidFill>
                <a:uFillTx/>
                <a:latin typeface="Arial"/>
              </a:rPr>
              <a:t>Pro - Native Language Sup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굴림"/>
              </a:rPr>
              <a:t>Early literacy instruction in a dual-language (Spanish-English) kindergart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굴림"/>
              </a:rPr>
              <a:t>Culatta &amp; Reese (2006)</a:t>
            </a:r>
            <a:br>
              <a:rPr sz="2400"/>
            </a:b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굴림"/>
              </a:rPr>
              <a:t>Student Spanish use and investment in a dual language immersion classroom: Implications for second language acquisition and heritage language mainten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굴림"/>
              </a:rPr>
              <a:t>Potowski (2004)</a:t>
            </a:r>
            <a:br>
              <a:rPr sz="2400"/>
            </a:b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굴림"/>
              </a:rPr>
              <a:t>Additional sources that support L1 maintenance as a literacy transfer to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굴림"/>
              </a:rPr>
              <a:t>Lee &amp; Schallert (1997), Slavin &amp; Cheung (2005), Vaughn et al. (2006), Winsler et al. (1999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00cc"/>
                </a:solidFill>
                <a:uFillTx/>
                <a:latin typeface="Arial"/>
              </a:rPr>
              <a:t>Con - No Native Language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굴림"/>
              </a:rPr>
              <a:t>Dismantling bilingual education implementing English immersion: The California initiative.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  <a:ea typeface="굴림"/>
              </a:rPr>
              <a:t>Rossell (2002).</a:t>
            </a:r>
            <a:br>
              <a:rPr sz="2200"/>
            </a:b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굴림"/>
              </a:rPr>
              <a:t>Additional sources that cite English-only immersion models as most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  <a:ea typeface="굴림"/>
              </a:rPr>
              <a:t>Helmsley, Holm &amp; Dodd (2006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  <a:ea typeface="굴림"/>
              </a:rPr>
              <a:t>Leung, et al. (2010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  <a:ea typeface="굴림"/>
              </a:rPr>
              <a:t>Garcia, E. (2007)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9999"/>
                </a:solidFill>
                <a:latin typeface="Arial"/>
                <a:ea typeface="굴림"/>
              </a:rPr>
              <a:t>States in agreement -  California, Arizona, Georgia, Massachuset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cc"/>
                </a:solidFill>
                <a:uFillTx/>
                <a:latin typeface="Arial"/>
              </a:rPr>
              <a:t>Bilingual Education Theor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James Cummins</a:t>
            </a:r>
            <a:br>
              <a:rPr sz="3200"/>
            </a:b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Bilingualism and special education: Programs and pedagogical issues (198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tudents must receive sufficient comprehensible input in the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target language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while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maintaining ties to the native languag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Ofelia Gar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2276640" cy="1238400"/>
          </a:xfrm>
          <a:prstGeom prst="rect">
            <a:avLst/>
          </a:prstGeom>
          <a:ln w="19080">
            <a:solidFill>
              <a:srgbClr val="00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cc"/>
                </a:solidFill>
                <a:uFillTx/>
                <a:latin typeface="Arial"/>
              </a:rPr>
              <a:t>Statement of 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HR¹: 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Use of 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bilingual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small-group literacy instruction in English Classroom A that is implemented two times a week over a four-month period will increase L2 proficiency of Spanish-speaking ELLs in the dual-language program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(ECLAS-2, Fountas &amp; Pinnell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HR²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ilingual small-group literacy instruction in English Classroom A will yield a greater improvement compared to English Classroom B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934320" y="685800"/>
            <a:ext cx="1666800" cy="1154160"/>
          </a:xfrm>
          <a:prstGeom prst="rect">
            <a:avLst/>
          </a:prstGeom>
          <a:ln w="28440">
            <a:solidFill>
              <a:srgbClr val="ff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39680" y="456840"/>
            <a:ext cx="76471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00cc"/>
                </a:solidFill>
                <a:uFillTx/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Carlo, M.S., August, D., McLaughlin, B., Snow, C. E., Dressler, C., Lippman, D., . . . White, C. E. (2004).  Closing the gap: Addressing the vocabulary needs of English language learners in bilingual and mainstream classrooms [Electronic Version]. </a:t>
            </a:r>
            <a:r>
              <a:rPr b="0" i="1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Reading Research Quarterly, 39</a:t>
            </a: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(2) 188-21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Combs, M. C., Evans, C., Fletcher, T., Parra, E., &amp; Jiménez, A. (2005).  Bilingualism for the children :  Implementing a dual-language program in an English-only state. </a:t>
            </a:r>
            <a:r>
              <a:rPr b="0" i="1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Educational Policy, 19, </a:t>
            </a: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701-727.  doi:  10.1177/089590480527806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Culatta, B., Reese, M., &amp; Setzer, L. (2006).  Early literacy instruction in a dual-language (Spanish-English) kindergarten.  </a:t>
            </a:r>
            <a:r>
              <a:rPr b="0" i="1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Communication Disorders Quarterly, 27</a:t>
            </a: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(2), 67-82.   doi:  10.1177/1525740106027002051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Cummins, J. (1983).  Bilingualism and special education: Programs and pedagogical issues. </a:t>
            </a:r>
            <a:r>
              <a:rPr b="0" i="1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Learning Disability Quarterly, 6</a:t>
            </a: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(4), Autumn, 373-386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Garcia, E. (2007).  Education comes in diverse shapes and forms for U.S. bilinguals. In J, Noel, (Ed.), </a:t>
            </a:r>
            <a:r>
              <a:rPr b="0" i="1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Multicultural Education, 2nd ed.</a:t>
            </a: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  138-144.  New York: McGraw Hill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Garcia, O. (2008).  Bilingual education in the 21st century.  West Sussex, United Kingdom:  Wiley-Blackwell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Helmsley, G., Holm, A., &amp; Dodd, B. (2006).  Diverse but not different:  The lexical skills of two primary age bilingual groups in comparison to monolingual peers. </a:t>
            </a:r>
            <a:r>
              <a:rPr b="0" i="1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International Journal of Bilingualism, 10</a:t>
            </a: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(4). 453-476. doi:  10.1177/13670069060100040401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Lee, J., &amp; Schallert, D. L. (1997).  The relative contribution of L2 language proficiency and L1 reading ability to L2 reading performance: A test of the threshold hypothesis in an EFL context [Electronic version]. </a:t>
            </a:r>
            <a:r>
              <a:rPr b="0" i="1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TESOL Quarterly. 31</a:t>
            </a: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. 713-739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Leung, C. B., Silverman, R., Nandakumar, R., Qian, X., &amp; Hines, S. (2010).  A comparison of difficulty levels of vocabulary in first grade basal readers for preschool dual language learners and monolingual English learners [Electronic Version]. </a:t>
            </a:r>
            <a:r>
              <a:rPr b="0" i="1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 American Education Research Journal.  </a:t>
            </a: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doi:  10.3102/0002831210382890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Potowski, K. (2004). Student Spanish use and investment in a dual language immersion classroom: Implications for second language acquisition and heritage language maintenance. </a:t>
            </a:r>
            <a:r>
              <a:rPr b="0" i="1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The Modern Language Journal, 88</a:t>
            </a: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(1)</a:t>
            </a:r>
            <a:r>
              <a:rPr b="0" i="1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, </a:t>
            </a: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Spring</a:t>
            </a:r>
            <a:r>
              <a:rPr b="0" i="1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, </a:t>
            </a: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75-101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Rossell, C. (2002).  Dismantling bilingual education implementing English immersion: The California initiative.  </a:t>
            </a:r>
            <a:r>
              <a:rPr b="0" i="1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Public Policy Inst. of California, San Francisco</a:t>
            </a: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.  ERIC Document Reproduction  Service No. ED467063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Slavin, E., &amp; Cheung, A. (2005).   A synthesis of research on language of reading instruction for English language learners.  </a:t>
            </a:r>
            <a:r>
              <a:rPr b="0" i="1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Review of Educational Research, 75</a:t>
            </a: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(2).  Summer, 247-284. </a:t>
            </a:r>
            <a:r>
              <a:rPr b="0" lang="en" sz="1000" spc="-1" strike="noStrike">
                <a:solidFill>
                  <a:srgbClr val="6600cc"/>
                </a:solidFill>
                <a:latin typeface="Arial"/>
                <a:ea typeface="굴림"/>
              </a:rPr>
              <a:t>doi: 10.3102/0034654307500224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Tong, V., Lara-Alecio, R., Irby, B., Mathes, P., &amp; Kwok, O. M. (2008).  Accelerating early academic oral English development in transitional bilingual and structure English immersion programs. </a:t>
            </a:r>
            <a:r>
              <a:rPr b="0" i="1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American Educational Research Journal, 45</a:t>
            </a: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(4), 1011-1044.       doi:  10.3102/0002831208320790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Vaughn, S., Linan-Thompson, S., Mathes, P. G., Cirino, P. T., Carlson, C. D., Pollard-Durodola, S. D., . . . Francis, D. J. (2006).  Effectiveness of Spanish intervention for first-grade English language learners at risk for reading difficulties. </a:t>
            </a:r>
            <a:r>
              <a:rPr b="0" i="1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Journal of Learning Disabilities, 39</a:t>
            </a: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(1), 56-73.  doi:  10.1177/00222194060390010601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Winsler, A., Diaz, R., Espinoza, L., Rodriguez, J. (1999).  When learning a second language does not mean losing the first: Bilingual language development in low-income, Spanish-speaking children attending bilingual preschool [Electronic version]. </a:t>
            </a:r>
            <a:r>
              <a:rPr b="0" i="1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Child Development, 70</a:t>
            </a:r>
            <a:r>
              <a:rPr b="0" lang="en-US" sz="1000" spc="-1" strike="noStrike">
                <a:solidFill>
                  <a:srgbClr val="6600cc"/>
                </a:solidFill>
                <a:latin typeface="Arial"/>
                <a:ea typeface="굴림"/>
              </a:rPr>
              <a:t>(2). 349-36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20:42:33Z</dcterms:created>
  <dc:creator>Bill Ramakkan</dc:creator>
  <dc:description/>
  <dc:language>en-US</dc:language>
  <cp:lastModifiedBy>Mark A. Martin</cp:lastModifiedBy>
  <dcterms:modified xsi:type="dcterms:W3CDTF">2010-10-09T19:08:22Z</dcterms:modified>
  <cp:revision>24</cp:revision>
  <dc:subject/>
  <dc:title>Helping Our ELL Students Succeed: Finding the Right Setting</dc:title>
</cp:coreProperties>
</file>